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0F9-B5F1-4478-AC3E-317D9DA092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CE51-8FF6-4333-99D9-65E515D6A9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682-EC6B-42B1-820C-49F97ED2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9D5-F36D-4F7E-81B3-0F9C9172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EAD-9609-4E28-9480-601C00C1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AAF-9179-4FC2-98A5-34FDCF96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50A-C70C-4C4D-94FA-E0BFCEDA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13B-3ECE-4BA9-A263-7CD63D48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DF3-B3E1-4961-8F9A-4DAE97B0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D39-0464-49E1-A584-870A4422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375-59EC-4ABA-A4D9-F2CF09DB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D49-B7B1-4433-8EBF-89B9A04B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8F8-1E11-452E-9097-3CE732C8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C65-AE10-4BB3-855E-5B6A554F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7688-40A7-4740-881E-3914D6E31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wiat-prezentacji.pl/pobieranie" TargetMode="External"/><Relationship Id="rId2" Type="http://schemas.openxmlformats.org/officeDocument/2006/relationships/hyperlink" Target="http://www.interklasa.pl/" TargetMode="External"/><Relationship Id="rId3" Type="http://schemas.openxmlformats.org/officeDocument/2006/relationships/hyperlink" Target="http://www.szkolnictwo.pl/" TargetMode="External"/><Relationship Id="rId4" Type="http://schemas.openxmlformats.org/officeDocument/2006/relationships/hyperlink" Target="http://www.matematyka.opracowania.pl/gimnazjum/" TargetMode="External"/><Relationship Id="rId5" Type="http://schemas.openxmlformats.org/officeDocument/2006/relationships/hyperlink" Target="http://www.matematyka.opracowania.pl/gimnazjum/" TargetMode="External"/><Relationship Id="rId6" Type="http://schemas.openxmlformats.org/officeDocument/2006/relationships/hyperlink" Target="http://www.matematyka.opracowania.pl/gimnazjum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gury podob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0" y="5300640"/>
            <a:ext cx="411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asa III gimnazj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520720" cy="1717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ttp://www.medianauka.pl/matematyka/grafika/rysunek147.jpg"/>
          <p:cNvPicPr/>
          <p:nvPr/>
        </p:nvPicPr>
        <p:blipFill>
          <a:blip r:embed="rId2"/>
          <a:stretch/>
        </p:blipFill>
        <p:spPr>
          <a:xfrm>
            <a:off x="468360" y="2924280"/>
            <a:ext cx="4829040" cy="24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87964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836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YKŁAD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ójkąt ABC ma boki długości 21 cm, 24 cm i 18 cm.           Jakie długości mają boki trójkąta DEF podobnego do trójkąta ABC w skali  </a:t>
            </a:r>
            <a:r>
              <a:rPr b="0" lang="pl-PL" sz="2800" spc="-1" strike="noStrike">
                <a:solidFill>
                  <a:srgbClr val="800080"/>
                </a:solidFill>
                <a:latin typeface="Calibri"/>
              </a:rPr>
              <a:t>1: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le razy obwód trójkąta DEF jest mniejszy od obwodu trójkąta AB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0504d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0504d"/>
                </a:solidFill>
                <a:latin typeface="Times New Roman"/>
              </a:rPr>
              <a:t>Aby obliczyć długości boków trójkąta DEF, mnożymy długości boków trójkąta ABC przez skalę podobieństw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az 7" descr="p3_1.gif"/>
          <p:cNvPicPr/>
          <p:nvPr/>
        </p:nvPicPr>
        <p:blipFill>
          <a:blip r:embed="rId1"/>
          <a:stretch/>
        </p:blipFill>
        <p:spPr>
          <a:xfrm>
            <a:off x="1258920" y="1773360"/>
            <a:ext cx="6613560" cy="10476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p3_2.gif"/>
          <p:cNvPicPr/>
          <p:nvPr/>
        </p:nvPicPr>
        <p:blipFill>
          <a:blip r:embed="rId2"/>
          <a:stretch/>
        </p:blipFill>
        <p:spPr>
          <a:xfrm>
            <a:off x="2700360" y="3500280"/>
            <a:ext cx="3168720" cy="10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52110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ki trójkąta DEF wynoszą: 7cm, 8cm, 6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004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KŁAD 3 – ciąg dalsz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liczamy teraz obwo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ABC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21 cm + 24 cm + 18 cm = 63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DE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7 cm + 8 cm + 6 cm = 21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ABC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:  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DE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 63 cm : 21 cm =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wód trójkąta DEF jest trzy razy mniejszy                          od obwodu trójkąta AB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spostrzeż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naprawdę nie musieliśmy wyliczać obwodów                i dzielić ich przez siebie, wystarczyło spojrzeć na skalę podobieństw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Trójkąt DEF jest podobny do trójkąta ABC w skali 1:3, oznacza to, że trójkąt DEF jest trzy razy mniejszy od trójkąta ABC, a więc jego obwód także jest trzy razy mniej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WAG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2640"/>
            <a:ext cx="83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osunek obwodów figur podobnych jest równy skali podobie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 – obwód figury wyjśc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’ – obwód figury podobnej do figury wyjśc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 – skala podobieństw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8" descr="wz_3.gif"/>
          <p:cNvPicPr/>
          <p:nvPr/>
        </p:nvPicPr>
        <p:blipFill>
          <a:blip r:embed="rId1"/>
          <a:stretch/>
        </p:blipFill>
        <p:spPr>
          <a:xfrm>
            <a:off x="4000680" y="3000240"/>
            <a:ext cx="124776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92880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rysowane poniżej wielokąty są podob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ka jest skala podobieństwa większego wielokąta do mniej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ka jest skala podobieństwa mniejszego wielokąta do więk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licz długości boków oznaczonych litera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az 5" descr="z1.gif"/>
          <p:cNvPicPr/>
          <p:nvPr/>
        </p:nvPicPr>
        <p:blipFill>
          <a:blip r:embed="rId1"/>
          <a:stretch/>
        </p:blipFill>
        <p:spPr>
          <a:xfrm>
            <a:off x="900000" y="4437000"/>
            <a:ext cx="7258320" cy="224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332000" y="4797000"/>
            <a:ext cx="100800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580000" y="4941720"/>
            <a:ext cx="79380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692280"/>
            <a:ext cx="8329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skalę podobieństwa większego wielokąta do mniejszego, dzielimy przez siebie długość jednego z boków większego wielokąta przez długość odpowiadającego mu boku z mniejszego wieloką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) Skala podobieństwa mniejszego wielokąta do większego jest liczbą odwrotną do skali obliczonej w podpunkcie a, czy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Obraz 4" descr="z1_1.gif"/>
          <p:cNvPicPr/>
          <p:nvPr/>
        </p:nvPicPr>
        <p:blipFill>
          <a:blip r:embed="rId1"/>
          <a:stretch/>
        </p:blipFill>
        <p:spPr>
          <a:xfrm>
            <a:off x="1042920" y="3213000"/>
            <a:ext cx="1828800" cy="885960"/>
          </a:xfrm>
          <a:prstGeom prst="rect">
            <a:avLst/>
          </a:prstGeom>
          <a:ln w="0">
            <a:noFill/>
          </a:ln>
        </p:spPr>
      </p:pic>
      <p:pic>
        <p:nvPicPr>
          <p:cNvPr id="111" name="Obraz 5" descr="z1_2.gif"/>
          <p:cNvPicPr/>
          <p:nvPr/>
        </p:nvPicPr>
        <p:blipFill>
          <a:blip r:embed="rId2"/>
          <a:stretch/>
        </p:blipFill>
        <p:spPr>
          <a:xfrm>
            <a:off x="1619280" y="5589720"/>
            <a:ext cx="1219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92880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) Aby obliczyć długość boków x i y mnożymy długości odpowiadających im boków z mniejszej figury przez skalę podobieństwa większego wielokąta do mniejszego (powiększamy bok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4" descr="z1.gif"/>
          <p:cNvPicPr/>
          <p:nvPr/>
        </p:nvPicPr>
        <p:blipFill>
          <a:blip r:embed="rId1"/>
          <a:stretch/>
        </p:blipFill>
        <p:spPr>
          <a:xfrm>
            <a:off x="500040" y="1214280"/>
            <a:ext cx="7257960" cy="2248200"/>
          </a:xfrm>
          <a:prstGeom prst="rect">
            <a:avLst/>
          </a:prstGeom>
          <a:ln w="0">
            <a:noFill/>
          </a:ln>
        </p:spPr>
      </p:pic>
      <p:pic>
        <p:nvPicPr>
          <p:cNvPr id="115" name="Obraz 6" descr="z1_3.gif"/>
          <p:cNvPicPr/>
          <p:nvPr/>
        </p:nvPicPr>
        <p:blipFill>
          <a:blip r:embed="rId2"/>
          <a:stretch/>
        </p:blipFill>
        <p:spPr>
          <a:xfrm>
            <a:off x="428760" y="5572080"/>
            <a:ext cx="2371680" cy="771480"/>
          </a:xfrm>
          <a:prstGeom prst="rect">
            <a:avLst/>
          </a:prstGeom>
          <a:ln w="0">
            <a:noFill/>
          </a:ln>
        </p:spPr>
      </p:pic>
      <p:pic>
        <p:nvPicPr>
          <p:cNvPr id="116" name="Obraz 7" descr="z1_4.gif"/>
          <p:cNvPicPr/>
          <p:nvPr/>
        </p:nvPicPr>
        <p:blipFill>
          <a:blip r:embed="rId3"/>
          <a:stretch/>
        </p:blipFill>
        <p:spPr>
          <a:xfrm>
            <a:off x="3857760" y="5572080"/>
            <a:ext cx="25621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18"/>
          <p:cNvSpPr/>
          <p:nvPr/>
        </p:nvSpPr>
        <p:spPr>
          <a:xfrm>
            <a:off x="285840" y="107172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długości boków a i b mnożymy odpowiadające im długości boków większego wielokąta przez skalę podobieństwa mniejszego wielokąta do większego (pomniejszamy bok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6" descr="z1_5.gif"/>
          <p:cNvPicPr/>
          <p:nvPr/>
        </p:nvPicPr>
        <p:blipFill>
          <a:blip r:embed="rId1"/>
          <a:stretch/>
        </p:blipFill>
        <p:spPr>
          <a:xfrm>
            <a:off x="428760" y="3429000"/>
            <a:ext cx="2762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ADANIE dodatko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18"/>
          <p:cNvSpPr/>
          <p:nvPr/>
        </p:nvSpPr>
        <p:spPr>
          <a:xfrm>
            <a:off x="428760" y="10000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na rysunku trójkąty są równoboczne. Jaka jest skala podobieństwa mniejszego trójkąta do więk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ok mniejszego trójkąta jest jednocześnie wysokością większego trójkąta. Jeśli oznaczymy bok większego trójkąta przez a, jego wysokość można wyliczyć ze wzor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az 6" descr="z2.gif"/>
          <p:cNvPicPr/>
          <p:nvPr/>
        </p:nvPicPr>
        <p:blipFill>
          <a:blip r:embed="rId1"/>
          <a:stretch/>
        </p:blipFill>
        <p:spPr>
          <a:xfrm>
            <a:off x="3429000" y="2714760"/>
            <a:ext cx="2276640" cy="1819080"/>
          </a:xfrm>
          <a:prstGeom prst="rect">
            <a:avLst/>
          </a:prstGeom>
          <a:ln w="0">
            <a:noFill/>
          </a:ln>
        </p:spPr>
      </p:pic>
      <p:pic>
        <p:nvPicPr>
          <p:cNvPr id="123" name="Obraz 7" descr="z2_1.gif"/>
          <p:cNvPicPr/>
          <p:nvPr/>
        </p:nvPicPr>
        <p:blipFill>
          <a:blip r:embed="rId2"/>
          <a:stretch/>
        </p:blipFill>
        <p:spPr>
          <a:xfrm>
            <a:off x="3500280" y="5786280"/>
            <a:ext cx="13050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GURY PODOB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428760" y="107172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ami podobnymi s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odcin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k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okrę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ie pro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kwad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trójką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ównoboc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żde dwie figury, które mają taki sam kształt, a różnią się najwyżej wielkości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Łącznik prosty 10"/>
          <p:cNvSpPr/>
          <p:nvPr/>
        </p:nvSpPr>
        <p:spPr>
          <a:xfrm>
            <a:off x="6357960" y="1285920"/>
            <a:ext cx="1143000" cy="35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Łącznik prosty 11"/>
          <p:cNvSpPr/>
          <p:nvPr/>
        </p:nvSpPr>
        <p:spPr>
          <a:xfrm>
            <a:off x="4714920" y="1428840"/>
            <a:ext cx="1857240" cy="28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lipsa 15"/>
          <p:cNvSpPr/>
          <p:nvPr/>
        </p:nvSpPr>
        <p:spPr>
          <a:xfrm>
            <a:off x="6929280" y="2928960"/>
            <a:ext cx="78588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lipsa 16"/>
          <p:cNvSpPr/>
          <p:nvPr/>
        </p:nvSpPr>
        <p:spPr>
          <a:xfrm>
            <a:off x="7572240" y="1714680"/>
            <a:ext cx="121464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lipsa 17"/>
          <p:cNvSpPr/>
          <p:nvPr/>
        </p:nvSpPr>
        <p:spPr>
          <a:xfrm>
            <a:off x="4857840" y="1928880"/>
            <a:ext cx="1071360" cy="1071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lipsa 18"/>
          <p:cNvSpPr/>
          <p:nvPr/>
        </p:nvSpPr>
        <p:spPr>
          <a:xfrm>
            <a:off x="3938760" y="2367000"/>
            <a:ext cx="714240" cy="714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Łącznik prosty 20"/>
          <p:cNvSpPr/>
          <p:nvPr/>
        </p:nvSpPr>
        <p:spPr>
          <a:xfrm>
            <a:off x="857160" y="5357880"/>
            <a:ext cx="2357640" cy="4284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Łącznik prosty 21"/>
          <p:cNvSpPr/>
          <p:nvPr/>
        </p:nvSpPr>
        <p:spPr>
          <a:xfrm>
            <a:off x="357120" y="5429160"/>
            <a:ext cx="2643120" cy="11430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24"/>
          <p:cNvSpPr/>
          <p:nvPr/>
        </p:nvSpPr>
        <p:spPr>
          <a:xfrm>
            <a:off x="4500720" y="5286240"/>
            <a:ext cx="714240" cy="7146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rostokąt 25"/>
          <p:cNvSpPr/>
          <p:nvPr/>
        </p:nvSpPr>
        <p:spPr>
          <a:xfrm>
            <a:off x="5429160" y="5143680"/>
            <a:ext cx="1285920" cy="128556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rójkąt równoramienny 26"/>
          <p:cNvSpPr/>
          <p:nvPr/>
        </p:nvSpPr>
        <p:spPr>
          <a:xfrm>
            <a:off x="7643880" y="4929120"/>
            <a:ext cx="579240" cy="50004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rójkąt równoramienny 27"/>
          <p:cNvSpPr/>
          <p:nvPr/>
        </p:nvSpPr>
        <p:spPr>
          <a:xfrm rot="2064000">
            <a:off x="7770960" y="5516280"/>
            <a:ext cx="993600" cy="85716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ADANIE dodatko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8"/>
          <p:cNvSpPr/>
          <p:nvPr/>
        </p:nvSpPr>
        <p:spPr>
          <a:xfrm>
            <a:off x="395280" y="98100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2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alę podobieństwa obliczamy dzieląc długość boku mniejszego trójkąta – h, przez długość boku większego trójkąta –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Obraz 5" descr="z2_2.gif"/>
          <p:cNvPicPr/>
          <p:nvPr/>
        </p:nvPicPr>
        <p:blipFill>
          <a:blip r:embed="rId1"/>
          <a:stretch/>
        </p:blipFill>
        <p:spPr>
          <a:xfrm>
            <a:off x="1403280" y="3357720"/>
            <a:ext cx="50403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obieństwo prostokątó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Symbol zastępczy zawartości 7" descr="wz4.gif"/>
          <p:cNvPicPr/>
          <p:nvPr/>
        </p:nvPicPr>
        <p:blipFill>
          <a:blip r:embed="rId1"/>
          <a:stretch/>
        </p:blipFill>
        <p:spPr>
          <a:xfrm>
            <a:off x="2928960" y="3643200"/>
            <a:ext cx="3476520" cy="21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68360" y="1197000"/>
          <a:ext cx="8248680" cy="2358720"/>
        </p:xfrm>
        <a:graphic>
          <a:graphicData uri="http://schemas.openxmlformats.org/drawingml/2006/table">
            <a:tbl>
              <a:tblPr/>
              <a:tblGrid>
                <a:gridCol w="8248680"/>
              </a:tblGrid>
              <a:tr h="23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y rozstrzygnąć, czy dwa prostokąty są podobne, wystarczy sprawdzić, czy stosunek dwóch prostopadłych boków jednego prostokąta jest równy stosunkowi długości odpowiednich boków drugiego prostoką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18"/>
          <p:cNvSpPr/>
          <p:nvPr/>
        </p:nvSpPr>
        <p:spPr>
          <a:xfrm>
            <a:off x="428760" y="1000080"/>
            <a:ext cx="835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owodnij, że prostokąty o wymiarach: 9cm x 12cm               i 32dm x 24dm są podobne. Jaka jest skala podobieństwa większego prostokąta do mniej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350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32 dm = 32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4 dm = 24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8"/>
          <p:cNvSpPr/>
          <p:nvPr/>
        </p:nvSpPr>
        <p:spPr>
          <a:xfrm>
            <a:off x="428760" y="1000080"/>
            <a:ext cx="83581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wyższa równość świadczy o tym, że dane prostokąty są podobn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ie określa ona jednak skali podobie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raz 4" descr="z3.gif"/>
          <p:cNvPicPr/>
          <p:nvPr/>
        </p:nvPicPr>
        <p:blipFill>
          <a:blip r:embed="rId1"/>
          <a:stretch/>
        </p:blipFill>
        <p:spPr>
          <a:xfrm>
            <a:off x="468360" y="1628640"/>
            <a:ext cx="2535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18"/>
          <p:cNvSpPr/>
          <p:nvPr/>
        </p:nvSpPr>
        <p:spPr>
          <a:xfrm>
            <a:off x="395280" y="981000"/>
            <a:ext cx="8358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skalę podobieństwa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zielę długość np. dłuższego boku większego prostokąta przez długość dłuższego boku mniejszego prostokąta, sprowadzając wcześniej długości do wspólnej jednostk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979640" y="4437000"/>
                <a:ext cx="25923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29600" cy="178560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dobieństwo trójkątów prostokątny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144036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wa trójkąty prostokątne są podobne, jeżeli stosunek długośc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yprostokątnych w jednym trójkącie jest równy stosunkow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ługośc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dpowiedni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rzyprostokątnych w drugim trójkąc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cecha podobieńst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852640"/>
            <a:ext cx="1079280" cy="194328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2708280"/>
            <a:ext cx="1584360" cy="244800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Symbol zastępczy tekstu 2"/>
              <p:cNvSpPr txBox="1"/>
              <p:nvPr/>
            </p:nvSpPr>
            <p:spPr>
              <a:xfrm>
                <a:off x="1187280" y="4797360"/>
                <a:ext cx="392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Symbol zastępczy tekstu 2"/>
              <p:cNvSpPr txBox="1"/>
              <p:nvPr/>
            </p:nvSpPr>
            <p:spPr>
              <a:xfrm>
                <a:off x="611280" y="3573360"/>
                <a:ext cx="4093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Symbol zastępczy tekstu 2"/>
              <p:cNvSpPr txBox="1"/>
              <p:nvPr/>
            </p:nvSpPr>
            <p:spPr>
              <a:xfrm>
                <a:off x="4859280" y="5084640"/>
                <a:ext cx="412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Symbol zastępczy tekstu 2"/>
              <p:cNvSpPr txBox="1"/>
              <p:nvPr/>
            </p:nvSpPr>
            <p:spPr>
              <a:xfrm>
                <a:off x="3954600" y="3500280"/>
                <a:ext cx="507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71640" y="5229360"/>
                <a:ext cx="1330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076640" y="4797360"/>
            <a:ext cx="7174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8" y="2"/>
                </a:moveTo>
                <a:arcTo wR="10800" hR="10800" stAng="-5473918" swAng="5342952"/>
                <a:lnTo>
                  <a:pt x="10800" y="10800"/>
                </a:lnTo>
                <a:close/>
              </a:path>
              <a:path fill="none" w="21600" h="21600">
                <a:moveTo>
                  <a:pt x="10568" y="2"/>
                </a:moveTo>
                <a:arcTo wR="10800" hR="10800" stAng="-5473918" swAng="5342952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620640" y="4437000"/>
            <a:ext cx="7174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8" y="2"/>
                </a:moveTo>
                <a:arcTo wR="10800" hR="10800" stAng="-5473918" swAng="5342952"/>
                <a:lnTo>
                  <a:pt x="10800" y="10800"/>
                </a:lnTo>
                <a:close/>
              </a:path>
              <a:path fill="none" w="21600" h="21600">
                <a:moveTo>
                  <a:pt x="10568" y="2"/>
                </a:moveTo>
                <a:arcTo wR="10800" hR="10800" stAng="-5473918" swAng="5342952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00720" y="494172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042920" y="4581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 cecha podobieńst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Podobie&amp;nacute;stwo figur."/>
          <p:cNvPicPr/>
          <p:nvPr/>
        </p:nvPicPr>
        <p:blipFill>
          <a:blip r:embed="rId1"/>
          <a:stretch/>
        </p:blipFill>
        <p:spPr>
          <a:xfrm>
            <a:off x="395280" y="2781360"/>
            <a:ext cx="8137440" cy="2941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5400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żeli dwa trójkąty prostokątne mają po jedny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ącie ostry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ównym, to te trójkąty są podob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348000" y="4869000"/>
                <a:ext cx="172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w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4869000"/>
                <a:ext cx="1513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940360" y="5013360"/>
                <a:ext cx="1476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403280" y="1989000"/>
            <a:ext cx="3889440" cy="2160720"/>
          </a:xfrm>
          <a:prstGeom prst="rtTriangl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2708280"/>
            <a:ext cx="2592360" cy="1441440"/>
          </a:xfrm>
          <a:prstGeom prst="rtTriangl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81120" y="3576600"/>
            <a:ext cx="43272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96" y="1027"/>
                </a:moveTo>
                <a:arcTo wR="10800" hR="10800" stAng="-3888983" swAng="3236294"/>
                <a:lnTo>
                  <a:pt x="10800" y="10800"/>
                </a:lnTo>
                <a:close/>
              </a:path>
              <a:path fill="none" w="21600" h="21600">
                <a:moveTo>
                  <a:pt x="15396" y="1027"/>
                </a:moveTo>
                <a:arcTo wR="10800" hR="10800" stAng="-3888983" swAng="3236294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124000" y="1916280"/>
                <a:ext cx="453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08000" y="414972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564000" y="4076640"/>
                <a:ext cx="393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564000" y="2852640"/>
                <a:ext cx="403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236840" y="24566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4236840" y="332964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22042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4237560" y="4202640"/>
            <a:ext cx="200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042920" y="2924280"/>
                <a:ext cx="4618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268360" y="2924280"/>
                <a:ext cx="439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800" y="312012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9280" y="4653000"/>
            <a:ext cx="762012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00 = 8 x  / :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x = 12,5 m – szerokość rze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dp. Rzeka ma szerokość 12,5 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19320" y="457200"/>
            <a:ext cx="7315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Zadani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ek i Wacek stoją na przeciwnych brzegach rzeki.                                        Korzystając z danych na rysunku, oblicz szerokość rze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1"/>
          <p:cNvPicPr/>
          <p:nvPr/>
        </p:nvPicPr>
        <p:blipFill>
          <a:blip r:embed="rId1"/>
          <a:stretch/>
        </p:blipFill>
        <p:spPr>
          <a:xfrm>
            <a:off x="1042920" y="1628640"/>
            <a:ext cx="7458120" cy="2675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08360" y="4076640"/>
                <a:ext cx="934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740720" y="4365720"/>
                <a:ext cx="826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6948360" y="4507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 rot="2403000">
            <a:off x="5237640" y="3018240"/>
            <a:ext cx="732600" cy="71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65" y="1315"/>
                </a:moveTo>
                <a:arcTo wR="10800" hR="10800" stAng="-3685813" swAng="3992367"/>
                <a:lnTo>
                  <a:pt x="10800" y="10800"/>
                </a:lnTo>
                <a:close/>
              </a:path>
              <a:path fill="none" w="21600" h="21600">
                <a:moveTo>
                  <a:pt x="15965" y="1315"/>
                </a:moveTo>
                <a:arcTo wR="10800" hR="10800" stAng="-3685813" swAng="3992367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 rot="13043400">
            <a:off x="3757680" y="2736360"/>
            <a:ext cx="733320" cy="7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90" y="888"/>
                </a:moveTo>
                <a:arcTo wR="10800" hR="10800" stAng="-3995826" swAng="4302380"/>
                <a:lnTo>
                  <a:pt x="10800" y="10800"/>
                </a:lnTo>
                <a:close/>
              </a:path>
              <a:path fill="none" w="21600" h="21600">
                <a:moveTo>
                  <a:pt x="15090" y="888"/>
                </a:moveTo>
                <a:arcTo wR="10800" hR="10800" stAng="-3995826" swAng="430238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ytuł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GURY PODOB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le tekstowe 4"/>
          <p:cNvSpPr/>
          <p:nvPr/>
        </p:nvSpPr>
        <p:spPr>
          <a:xfrm>
            <a:off x="428760" y="7858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7120" y="1000080"/>
          <a:ext cx="8286840" cy="192888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a wielokąty o takiej samie liczbie boków nazywamy wielokątami podobnymi, jeżeli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ą odpowiednie kąty wewnętrzne rów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sunek odpowiadających sobie boków jest równ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57120" y="3214800"/>
          <a:ext cx="8286840" cy="192888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ę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ówną stosunkowi długości odpowiadających sobie odcinków figur podobnych nazywamy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alą podobieństw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71" name="pole tekstowe 8"/>
          <p:cNvSpPr/>
          <p:nvPr/>
        </p:nvSpPr>
        <p:spPr>
          <a:xfrm>
            <a:off x="357120" y="52862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obieństwo oznaczamy: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(czytaj: figura A jest podobna do figury 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adanie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zt wysokości 5 m rzuca cień długości 7,5 m. W tym samym czasie w tej samej miejscowości pewien budynek rzuca cień długości 36 m. Jaką wysokość ma ten budyn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1"/>
          <p:cNvPicPr/>
          <p:nvPr/>
        </p:nvPicPr>
        <p:blipFill>
          <a:blip r:embed="rId1"/>
          <a:stretch/>
        </p:blipFill>
        <p:spPr>
          <a:xfrm>
            <a:off x="3635280" y="1628640"/>
            <a:ext cx="5094360" cy="3364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468360" y="4941720"/>
            <a:ext cx="4174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7,5 x = 1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x = 24 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dp. Budynek ma wysokość 24 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6336360" y="3320280"/>
            <a:ext cx="432000" cy="2665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6229440" y="4941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4437000"/>
            <a:ext cx="576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39640" y="4005360"/>
                <a:ext cx="1152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ola figur podobn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136836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Stosunek pól figur podobnych jest równy kwadratowi skali podobieńst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2/141 podręcznik GW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wie figury o polach 7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4,5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ą podobne. Jaka jest skala podobieństwa mniejszej z tych figur do większe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835280" y="3284640"/>
                <a:ext cx="3958920" cy="25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,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755640" y="6017400"/>
            <a:ext cx="7345440" cy="36828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p. Skala podobieństwa mniejszej figury do większej wynosi 1: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1/141 -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16977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‘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F     w skali 2: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2492280"/>
                <a:ext cx="2943000" cy="34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64000" y="1341360"/>
                <a:ext cx="15480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84720" y="2708280"/>
                <a:ext cx="2160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093080" y="5273640"/>
            <a:ext cx="1655640" cy="1584360"/>
          </a:xfrm>
          <a:prstGeom prst="upArrowCallout">
            <a:avLst>
              <a:gd name="adj1" fmla="val 26127"/>
              <a:gd name="adj2" fmla="val 26125"/>
              <a:gd name="adj3" fmla="val 16667"/>
              <a:gd name="adj4" fmla="val 666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7093080" y="6165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e fig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16977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F ‘    w skali  6: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3/14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340280"/>
            <a:ext cx="753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ależy wykorzystać wz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a skalę podobieństw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 kwadrat skali podobieństw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64000" y="3429000"/>
                <a:ext cx="18720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332000" y="3284640"/>
                <a:ext cx="1655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5/14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miary na pl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miary w rzeczywist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300720" y="1197000"/>
                <a:ext cx="207324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900000" y="220500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swiat-prezentacji.pl/pobiera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interklasa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www.szkolnictwo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www.matematyka.opracowania.pl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/gimnazjum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ytuł 1"/>
          <p:cNvSpPr/>
          <p:nvPr/>
        </p:nvSpPr>
        <p:spPr>
          <a:xfrm>
            <a:off x="500040" y="-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 FIGUR PODOBNY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az 5" descr="przyklady figur podobnych_1.gif"/>
          <p:cNvPicPr/>
          <p:nvPr/>
        </p:nvPicPr>
        <p:blipFill>
          <a:blip r:embed="rId1"/>
          <a:stretch/>
        </p:blipFill>
        <p:spPr>
          <a:xfrm>
            <a:off x="2071800" y="714240"/>
            <a:ext cx="6076800" cy="26290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7"/>
          <p:cNvSpPr/>
          <p:nvPr/>
        </p:nvSpPr>
        <p:spPr>
          <a:xfrm>
            <a:off x="428760" y="3214800"/>
            <a:ext cx="82864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Wielokąt A’B’C’D’E’ jest podobny do wielokąta ABCDE ponieważ: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mbria Math"/>
              </a:rPr>
              <a:t>∢A = ∢ A’; ∢ B = ∢ B’; ∢ C = ∢C’; ∢ D = ∢ D’; ∢ E = ∢ E’, or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A’B’C’D’E’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ABCDE w skali k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ABCDE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A’B’C’D’E’ w skali k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Obraz 8" descr="wz_1.gif"/>
          <p:cNvPicPr/>
          <p:nvPr/>
        </p:nvPicPr>
        <p:blipFill>
          <a:blip r:embed="rId2"/>
          <a:stretch/>
        </p:blipFill>
        <p:spPr>
          <a:xfrm>
            <a:off x="500040" y="4572000"/>
            <a:ext cx="74296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Obraz 9" descr="wz_2.gif"/>
          <p:cNvPicPr/>
          <p:nvPr/>
        </p:nvPicPr>
        <p:blipFill>
          <a:blip r:embed="rId3"/>
          <a:stretch/>
        </p:blipFill>
        <p:spPr>
          <a:xfrm>
            <a:off x="4857840" y="6072120"/>
            <a:ext cx="1839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http://matematykatv.pl/newsy_images/757-853.JPG"/>
          <p:cNvPicPr/>
          <p:nvPr/>
        </p:nvPicPr>
        <p:blipFill>
          <a:blip r:embed="rId1"/>
          <a:stretch/>
        </p:blipFill>
        <p:spPr>
          <a:xfrm>
            <a:off x="395280" y="1484280"/>
            <a:ext cx="80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ytuł 1"/>
          <p:cNvSpPr/>
          <p:nvPr/>
        </p:nvSpPr>
        <p:spPr>
          <a:xfrm>
            <a:off x="3571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KA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6"/>
          <p:cNvSpPr/>
          <p:nvPr/>
        </p:nvSpPr>
        <p:spPr>
          <a:xfrm>
            <a:off x="250920" y="981000"/>
            <a:ext cx="8713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ala mówi nam ile razy figury podobne są większe lub mniejsze od siebie. Jest to zawszę liczba dodatnia (k &gt; 0). Jeże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&lt; 1 – to figura podobna jest mniejsza od wyjściowej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= 1 – to figura podobna jest identyczna jak figu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wyjścio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&gt; 1 – to figura podobna jest większa od wyjściow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0"/>
          <p:cNvSpPr/>
          <p:nvPr/>
        </p:nvSpPr>
        <p:spPr>
          <a:xfrm>
            <a:off x="357120" y="92880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ZYKŁAD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jakiej skali kwadr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boku 9 cm jest podobny do kwadrat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G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boku 22,5 c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Skalę podobieństwa obliczamy dzieląc długość boku figury </a:t>
            </a:r>
            <a:r>
              <a:rPr b="0" lang="en-US" sz="2800" spc="-1" strike="noStrike">
                <a:solidFill>
                  <a:srgbClr val="c0504d"/>
                </a:solidFill>
                <a:latin typeface="Arial"/>
              </a:rPr>
              <a:t>ABC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, przez długość boku figury EF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27280" y="4365720"/>
                <a:ext cx="352908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ole tekstowe 8"/>
          <p:cNvSpPr/>
          <p:nvPr/>
        </p:nvSpPr>
        <p:spPr>
          <a:xfrm>
            <a:off x="428760" y="785880"/>
            <a:ext cx="82864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KŁAD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stoką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a wymiary 5,5 cm x 6,9 cm. Czy prostoką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 wymiarach 38,5 cm x 48,3 cm jest podobny do prostokąt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504d"/>
                </a:solidFill>
                <a:latin typeface="Times New Roman"/>
              </a:rPr>
              <a:t>Dzielimy krótszy bok przez krótszy, a dłuższy przez dłuższy, jeżeli stosunek odpowiednich boków będzie taki sam to prostokąty są podobne, jeśli będzie różny to nie są podob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6" descr="p2.gif"/>
          <p:cNvPicPr/>
          <p:nvPr/>
        </p:nvPicPr>
        <p:blipFill>
          <a:blip r:embed="rId1"/>
          <a:stretch/>
        </p:blipFill>
        <p:spPr>
          <a:xfrm>
            <a:off x="2771640" y="1484280"/>
            <a:ext cx="2521080" cy="249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pole tekstowe 9"/>
          <p:cNvSpPr/>
          <p:nvPr/>
        </p:nvSpPr>
        <p:spPr>
          <a:xfrm>
            <a:off x="684360" y="4724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dp.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Prostokąt E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Calibri"/>
              </a:rPr>
              <a:t>jest podobny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do prostokąta F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kala podobieństwa k =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9:53:49Z</dcterms:created>
  <dc:creator>Wolf</dc:creator>
  <dc:description/>
  <dc:language>en-US</dc:language>
  <cp:lastModifiedBy>Matematyka</cp:lastModifiedBy>
  <dcterms:modified xsi:type="dcterms:W3CDTF">2014-03-05T10:59:12Z</dcterms:modified>
  <cp:revision>309</cp:revision>
  <dc:subject/>
  <dc:title>„Matematyka zawiera w sobie nie tylko prawdę, ale i najwyższe piękno – piękno chłodne i surowe, podobne do piękna rzeźby.”</dc:title>
</cp:coreProperties>
</file>